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8B3-F879-411F-B776-E4379293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C5A-20B0-4D4C-A258-55AB625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8F5-799A-4570-970D-DFD96E7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0B1-7222-4E65-9F20-6540F1E2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4B8-4204-4E50-88F3-A2AAB7F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DAB-A9D1-49B1-B3EB-366B051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148-5049-4F58-BE6D-C81C7B3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C4D-142E-4C18-9A90-03936C46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4EC-3F51-4398-AEED-BFD3C90D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7D5-7329-439A-8E5F-E8878E5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0EB-930D-40EB-81CE-19AA770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7A3-9629-4DD3-B2D0-E97EF20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D4F7-F517-450B-90F2-026FBC02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sund Lebe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ja Geh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971800" cy="274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98360" y="2855880"/>
            <a:ext cx="44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h esse Erdbeeren für meine Gesundh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68680" y="323676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Gymnastik machen jeden 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4468680"/>
            <a:ext cx="3962520" cy="23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6240" y="25909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h fahre Rad jeden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646440" cy="3278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2209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 raucht. Das ist nicht ges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21621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32120"/>
            <a:ext cx="3549600" cy="3125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3440" y="217008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 Freund isst Gemüse jeden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1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3657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kann zu laufen einmal in der Woch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2808360" cy="194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1560" y="182880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esse keine Schokolade, weil es nicht gesund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1:42Z</dcterms:created>
  <dc:creator>CUSD220</dc:creator>
  <dc:description/>
  <dc:language>en-US</dc:language>
  <cp:lastModifiedBy>CUSD220</cp:lastModifiedBy>
  <dcterms:modified xsi:type="dcterms:W3CDTF">2012-02-24T18:22:32Z</dcterms:modified>
  <cp:revision>5</cp:revision>
  <dc:subject/>
  <dc:title>Gesund leben Project</dc:title>
</cp:coreProperties>
</file>